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2CF-2248-42C0-9E34-25190F08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429-BF25-4257-9BC6-A3367BFF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84D-C2F9-4A3E-B5E0-BEB74210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C72-C17B-43EC-A141-F12821CB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9E3F-5288-49BC-A1FE-36A78480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D072-9F59-4725-9B53-2C3518E2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C776-58DE-4CAC-AACE-DBEED61A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9538-99F3-4884-9881-EFC96D50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85D7-A3F7-4357-8C60-4B868FB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A703-4A13-4F74-AC01-72C86AE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7730-55AD-4149-B069-39ACE3CB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968-6BEE-4AEF-B7B8-BF9F09FA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496F-3D2B-4C61-9F27-9BC61EE0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F724-B808-4AD9-8A03-DC84260B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5CE9-4A11-4D0E-9B5C-936A01F6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743C-2823-4D6D-B0C5-3EE55D1F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2BC1-0E90-49AC-83AD-693D7E4D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E07-CB97-4878-9E92-A3FA5783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4B8-1C6C-4BC8-8CBE-7074DF32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613-930E-4AF9-BAD1-BA74AD6B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C5D-465F-42D1-AB0D-28AF3D25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F68-AB8F-48EA-9DE3-3BE58EF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A4D-AC44-4ABC-B4ED-AF251B1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DAF-ECBF-42DE-A96F-C3CE748F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BD95-838F-4465-8498-18FFD2CFBE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64C6-06E6-4363-81A6-A0896CEC0B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42040" y="4270680"/>
            <a:ext cx="74599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s Comi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or: Allie O’Br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food"/>
          <p:cNvPicPr/>
          <p:nvPr/>
        </p:nvPicPr>
        <p:blipFill>
          <a:blip r:embed="rId1"/>
          <a:stretch/>
        </p:blipFill>
        <p:spPr>
          <a:xfrm>
            <a:off x="1828800" y="76212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slow" advTm="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Desayu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142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el desayuno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63360" y="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63360" y="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3233880" y="2576520"/>
            <a:ext cx="26762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1" descr="waffles"/>
          <p:cNvPicPr/>
          <p:nvPr/>
        </p:nvPicPr>
        <p:blipFill>
          <a:blip r:embed="rId1"/>
          <a:stretch/>
        </p:blipFill>
        <p:spPr>
          <a:xfrm>
            <a:off x="4191120" y="4724280"/>
            <a:ext cx="2286000" cy="184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fruit-salad3"/>
          <p:cNvPicPr/>
          <p:nvPr/>
        </p:nvPicPr>
        <p:blipFill>
          <a:blip r:embed="rId2"/>
          <a:stretch/>
        </p:blipFill>
        <p:spPr>
          <a:xfrm>
            <a:off x="1066680" y="2590920"/>
            <a:ext cx="2514600" cy="167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orange_juice"/>
          <p:cNvPicPr/>
          <p:nvPr/>
        </p:nvPicPr>
        <p:blipFill>
          <a:blip r:embed="rId3"/>
          <a:stretch/>
        </p:blipFill>
        <p:spPr>
          <a:xfrm>
            <a:off x="7238880" y="4114800"/>
            <a:ext cx="1764000" cy="261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apple-juice"/>
          <p:cNvPicPr/>
          <p:nvPr/>
        </p:nvPicPr>
        <p:blipFill>
          <a:blip r:embed="rId4"/>
          <a:stretch/>
        </p:blipFill>
        <p:spPr>
          <a:xfrm>
            <a:off x="4114800" y="2590920"/>
            <a:ext cx="2685960" cy="190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0"/>
          <p:cNvSpPr/>
          <p:nvPr/>
        </p:nvSpPr>
        <p:spPr>
          <a:xfrm>
            <a:off x="1205640" y="43797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s Frui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7226280" y="35416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umo de Naran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424240" y="53704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s Gof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6693120" y="27795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umo de Manza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almuerz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693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el almuerzo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20070917-lemonade"/>
          <p:cNvPicPr/>
          <p:nvPr/>
        </p:nvPicPr>
        <p:blipFill>
          <a:blip r:embed="rId1"/>
          <a:stretch/>
        </p:blipFill>
        <p:spPr>
          <a:xfrm>
            <a:off x="1066680" y="2514600"/>
            <a:ext cx="2129040" cy="1933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La-Scalia-Chopped-Salad-photo-"/>
          <p:cNvPicPr/>
          <p:nvPr/>
        </p:nvPicPr>
        <p:blipFill>
          <a:blip r:embed="rId2"/>
          <a:stretch/>
        </p:blipFill>
        <p:spPr>
          <a:xfrm>
            <a:off x="6248520" y="4724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subway-sandwich"/>
          <p:cNvPicPr/>
          <p:nvPr/>
        </p:nvPicPr>
        <p:blipFill>
          <a:blip r:embed="rId3"/>
          <a:stretch/>
        </p:blipFill>
        <p:spPr>
          <a:xfrm>
            <a:off x="3352680" y="2666880"/>
            <a:ext cx="2514600" cy="161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Water-glass"/>
          <p:cNvPicPr/>
          <p:nvPr/>
        </p:nvPicPr>
        <p:blipFill>
          <a:blip r:embed="rId4"/>
          <a:stretch/>
        </p:blipFill>
        <p:spPr>
          <a:xfrm>
            <a:off x="3581280" y="4572000"/>
            <a:ext cx="184176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4"/>
          <p:cNvSpPr/>
          <p:nvPr/>
        </p:nvSpPr>
        <p:spPr>
          <a:xfrm>
            <a:off x="6159600" y="28558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Sandwi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6236640" y="40752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054800" y="44560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a Limon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441160" y="624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ag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Meri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La merienda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ANd9GcSQ3SQ-kyjnLGk5W8KDnTgg4rngj6OFR5YDv8ILZqPDeagKqnZcVbJuYGiH"/>
          <p:cNvPicPr/>
          <p:nvPr/>
        </p:nvPicPr>
        <p:blipFill>
          <a:blip r:embed="rId1"/>
          <a:stretch/>
        </p:blipFill>
        <p:spPr>
          <a:xfrm>
            <a:off x="1066680" y="243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almon-and-avocado-sushi1"/>
          <p:cNvPicPr/>
          <p:nvPr/>
        </p:nvPicPr>
        <p:blipFill>
          <a:blip r:embed="rId2"/>
          <a:stretch/>
        </p:blipFill>
        <p:spPr>
          <a:xfrm>
            <a:off x="6248520" y="46292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watermelon-juice"/>
          <p:cNvPicPr/>
          <p:nvPr/>
        </p:nvPicPr>
        <p:blipFill>
          <a:blip r:embed="rId3"/>
          <a:stretch/>
        </p:blipFill>
        <p:spPr>
          <a:xfrm>
            <a:off x="1752480" y="4572000"/>
            <a:ext cx="1924200" cy="1919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3796560" y="255096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tatas Fritas y Guacamo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721320" y="51418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umo de San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311160" y="4151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sush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04960" y="19512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Ce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la cena me gusta com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5" descr="88035"/>
          <p:cNvPicPr/>
          <p:nvPr/>
        </p:nvPicPr>
        <p:blipFill>
          <a:blip r:embed="rId1"/>
          <a:stretch/>
        </p:blipFill>
        <p:spPr>
          <a:xfrm>
            <a:off x="990720" y="2514600"/>
            <a:ext cx="2514600" cy="1879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hinese_chicken_wings_1"/>
          <p:cNvPicPr/>
          <p:nvPr/>
        </p:nvPicPr>
        <p:blipFill>
          <a:blip r:embed="rId2"/>
          <a:stretch/>
        </p:blipFill>
        <p:spPr>
          <a:xfrm>
            <a:off x="6172200" y="474336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stockphoto_5842153-milk-bottle-and-glass"/>
          <p:cNvPicPr/>
          <p:nvPr/>
        </p:nvPicPr>
        <p:blipFill>
          <a:blip r:embed="rId3"/>
          <a:stretch/>
        </p:blipFill>
        <p:spPr>
          <a:xfrm>
            <a:off x="1066680" y="4572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quick-and-easy-chicken-noodle-soup1"/>
          <p:cNvPicPr/>
          <p:nvPr/>
        </p:nvPicPr>
        <p:blipFill>
          <a:blip r:embed="rId4"/>
          <a:stretch/>
        </p:blipFill>
        <p:spPr>
          <a:xfrm>
            <a:off x="6705720" y="25146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578840" y="6248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3284280" y="4876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5493960" y="26668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Sop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3522240" y="40384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Macarrones Con Que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10000" y="124560"/>
            <a:ext cx="7828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 Desier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83808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 el desierto me gusta come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2" descr="http://scm-l3.technorati.com/11/06/15/45159/smoothie.gif?t=20110615100121"/>
          <p:cNvPicPr/>
          <p:nvPr/>
        </p:nvPicPr>
        <p:blipFill>
          <a:blip r:embed="rId1"/>
          <a:stretch/>
        </p:blipFill>
        <p:spPr>
          <a:xfrm>
            <a:off x="914400" y="24382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www.mydrinkworks.com/MyDrinkWorks/Images/80_Recipe.jpg"/>
          <p:cNvPicPr/>
          <p:nvPr/>
        </p:nvPicPr>
        <p:blipFill>
          <a:blip r:embed="rId2"/>
          <a:stretch/>
        </p:blipFill>
        <p:spPr>
          <a:xfrm>
            <a:off x="7391520" y="4267080"/>
            <a:ext cx="1600200" cy="233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://www.duncanhines.com/content/products/product/15/hero-chocolate-chip-cookie-mix.jpg"/>
          <p:cNvPicPr/>
          <p:nvPr/>
        </p:nvPicPr>
        <p:blipFill>
          <a:blip r:embed="rId3"/>
          <a:stretch/>
        </p:blipFill>
        <p:spPr>
          <a:xfrm>
            <a:off x="990720" y="4952880"/>
            <a:ext cx="2666880" cy="154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2.bp.blogspot.com/_MHtRnLjgdiI/TNGQiwvmm1I/AAAAAAAAACA/V4GJnGrOMYM/s1600/vanilla-ice-cream.jpg"/>
          <p:cNvPicPr/>
          <p:nvPr/>
        </p:nvPicPr>
        <p:blipFill>
          <a:blip r:embed="rId4"/>
          <a:stretch/>
        </p:blipFill>
        <p:spPr>
          <a:xfrm>
            <a:off x="6858000" y="2590920"/>
            <a:ext cx="2057400" cy="1533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1155600" y="4267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Batido De Fru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742200" y="6019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Galle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5121360" y="47242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Frappe De Carame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5265720" y="27432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2:11Z</dcterms:created>
  <dc:creator>allie o'brien</dc:creator>
  <dc:description/>
  <dc:language>en-US</dc:language>
  <cp:lastModifiedBy>Brandi</cp:lastModifiedBy>
  <dcterms:modified xsi:type="dcterms:W3CDTF">2012-04-04T19:59:07Z</dcterms:modified>
  <cp:revision>10</cp:revision>
  <dc:subject/>
  <dc:title>Las Comidas</dc:title>
</cp:coreProperties>
</file>